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571-6D75-4FF1-9D35-669A03E3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85F-B4D0-451E-BE33-1A7FA3A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703-D04F-413A-A4C6-4A2F6F21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42B-A1E5-4A2F-9330-C2150A6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39A-21E9-4608-982B-A46DF66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79-0F1C-460F-B4EE-DD038AB4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FB6-1F1A-4510-8A0C-B99D358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0CA-A144-43C0-A1CF-14A0846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DCF-5B13-4534-B515-4159B0C2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815-61F3-4E95-AA98-C934F48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E0C-9A51-4506-A869-2993361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E57-DA40-41F1-943F-AA52B8E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99EE-B664-4CC8-B2CE-FED44A083C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A6C6-ADE5-444E-8EFC-7E7B1DFEDB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9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45" name="Freeform 2"/>
            <p:cNvSpPr/>
            <p:nvPr/>
          </p:nvSpPr>
          <p:spPr>
            <a:xfrm>
              <a:off x="3164040" y="0"/>
              <a:ext cx="5979960" cy="32385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50a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3"/>
            <p:cNvSpPr/>
            <p:nvPr/>
          </p:nvSpPr>
          <p:spPr>
            <a:xfrm>
              <a:off x="3693960" y="1935000"/>
              <a:ext cx="1616400" cy="10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5310360" cy="47260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50a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Group 8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49" name="Freeform 5"/>
              <p:cNvSpPr/>
              <p:nvPr/>
            </p:nvSpPr>
            <p:spPr>
              <a:xfrm>
                <a:off x="0" y="0"/>
                <a:ext cx="3675240" cy="137808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6"/>
              <p:cNvSpPr/>
              <p:nvPr/>
            </p:nvSpPr>
            <p:spPr>
              <a:xfrm>
                <a:off x="0" y="455760"/>
                <a:ext cx="4487760" cy="24764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7"/>
              <p:cNvSpPr/>
              <p:nvPr/>
            </p:nvSpPr>
            <p:spPr>
              <a:xfrm>
                <a:off x="0" y="1322280"/>
                <a:ext cx="5105520" cy="26622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AMERICAN REVOLU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m Elite Protest to Popular Revolt, 1763–178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ginning “The World Over Agai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980720"/>
            <a:ext cx="7999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ish colonial governments col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Continental Congress—action and ina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e 1775—Organize the colonies for war  (George Washington appointed commander in chie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itish action that makes compromise unlik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tish blockade colonists’ t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1776—Thomas Pain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mmon Se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inces ordinary colonists to sever ties with Brit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fferson writes Declaration of Independ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4—Declaration of Independence issu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men are created equal” and “king is the caus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hting for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nfident of vic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population, more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val suprem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underestimate Americans’ commitment to their political ide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army to be a fighting force and symbol of the republican 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go well for Americans for the first two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rench Al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s of Saratoga (Oct 177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nces France that colonists are serious enough to become formal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sue for peace to prevent Franco-American alliance but it is too 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merican Revolution, 1775–17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DIVI7233102"/>
          <p:cNvPicPr/>
          <p:nvPr/>
        </p:nvPicPr>
        <p:blipFill>
          <a:blip r:embed="rId2"/>
          <a:srcRect l="-93455" t="0" r="-9345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yalist Strongho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DIVI7233106"/>
          <p:cNvPicPr/>
          <p:nvPr/>
        </p:nvPicPr>
        <p:blipFill>
          <a:blip r:embed="rId2"/>
          <a:srcRect l="-48417" t="0" r="-484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yalist Dilem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100,000 Loyalists leave U.S. at war’s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share basic ideology with Patri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see rebellion as endangering “life, liberty, and proper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ists treated poorly by both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never fully trust Loya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iots seize property, imprison, execute 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ning the Pe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negotiators are John Jay, Ben Franklin, and John Ad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ce Treaty of 17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independence recogn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gets all territory east of Mississippi River, between Canada and 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secures fishing rights in North Atlan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will help British merchants and Loyalists collect deb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rving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erican Revolution begins construction of new form of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 remains: a government of the elite or a government of the peop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ial Products and 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091"/>
          <p:cNvPicPr/>
          <p:nvPr/>
        </p:nvPicPr>
        <p:blipFill>
          <a:blip r:embed="rId1"/>
          <a:srcRect l="-9090" t="0" r="-909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Colon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60s an optimistic post-wa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king ethnic and racial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 of population under twenty-one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ly high per-capita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down of Political T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60—George III ascends thr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limited ability, wants to take more active role in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liamentary sovereig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lish officials assume that Parliament must have ultimate author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try to reserve internal colonial authority for their own legisl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not represented at all in Parli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nists insist only colonial assemblies should represent Amer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oding the Bonds of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, expensive debt and army left in America from Seven Years’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doubt the army’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ntiac’s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es the British army’s weak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determined to settle trans-Appalachia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lamation of 1763 bans settlement in trans-Appalachia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ing Off the National Deb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 Minister George Grenville attempts to reduce England’s war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nue Act of 1764 (the Sugar A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ries of other Acts will be passed that will lead to protest and all out war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TB501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r Prot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s of Liberty protest includes riots, mob violence, and boycot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s of Liberty protest includes riots, mob violence, and boycot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ton Mass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ton Tea Party (response to the Coercive A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ward 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 1774—First Continental Congress in response to Coercive 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commends urging forcible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ngton and Concord (April 17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t Heard Around the Wor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2:31:44Z</dcterms:created>
  <dc:creator/>
  <dc:description/>
  <dc:language>en-US</dc:language>
  <cp:lastModifiedBy>Buffalo Grive High School</cp:lastModifiedBy>
  <dcterms:modified xsi:type="dcterms:W3CDTF">2010-09-10T13:44:05Z</dcterms:modified>
  <cp:revision>14</cp:revision>
  <dc:subject/>
  <dc:title>Chapter 5 THE AMERICAN REVOLUTION From Elite Protest to Popular Revolt, 1763-1783</dc:title>
</cp:coreProperties>
</file>